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0C0-4095-4F75-942D-A4A34650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694-D7F6-430F-8604-181E1A2C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B37-CB42-4B05-B834-9D0E8ED9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677-1A0A-424F-A3B8-153F7D4B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C894-83DB-48BF-8A4F-C62A0A74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26B5-1695-413D-9C36-9B92D265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5C4E-8791-4D87-B430-884F0A58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69C3-754C-431F-92CA-7C32C3E0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66E7-30FB-4627-8935-9D0DAB1E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DA4A-E6BC-4B6F-BD50-7B7E4426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1A08-C3CD-4475-A4FD-875A0018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372-1CFF-4BB3-A345-610B825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3B50-9CF0-4894-9F56-7D83FFB4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C0C3-8B48-4EC7-858C-B0DA35D5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D49C-24C3-4D80-87E5-BAD22C66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C0C6-204B-486B-B21A-8D72E485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721E-4535-472B-AA3B-FFAD2E34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D63-D0FE-4FBE-A9E0-842C0E11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D6B-9929-4886-903D-B41FFFEA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0FE-0A63-431F-8F51-C67A3823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2CE-35E5-4154-8813-4F1CDF18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BAF-9883-461E-B165-18E6E8F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595-A840-4AB8-8D75-4F72EB0E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8FD-6729-4F7B-BF4F-41D1F3BE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1650-68E0-4A11-B5AA-2E2242609E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48D-7F47-42DB-AFA5-30D9A82545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2:16Z</dcterms:modified>
  <cp:revision>62</cp:revision>
  <dc:subject/>
  <dc:title>幻灯片 1</dc:title>
</cp:coreProperties>
</file>